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09A-896C-4F4C-AB9A-A1B1B3D5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75B-1A15-4C2E-B4F5-EB9D6BBD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D94-C404-42B2-8D9A-68D19670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88A-D7CD-4A90-B96C-DEF327F1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C51-B26F-40A4-8AAB-B5AF04DC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344-73BE-4EAE-B39F-15DC9AC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720-3B57-466F-979C-9B7BA623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1F4-4A59-4C2A-B968-3207A6F1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0EA-D13A-4FA8-BEEF-57F2500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236-4BDA-43E7-836A-FB69A7B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4CC-0B6D-4300-B605-C2BE44B8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402-ADDD-4CBC-90EE-04ED7AF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7960-937B-41F2-B773-EBD97BA1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295280"/>
          <a:ext cx="7315200" cy="5114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 txBox="1"/>
          <p:nvPr/>
        </p:nvSpPr>
        <p:spPr>
          <a:xfrm>
            <a:off x="3352680" y="4572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Roman"/>
              </a:rPr>
              <a:t>Seas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Roman"/>
              <a:ea typeface="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the winter solstice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difference between the winter solstice and the summer sols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y is the spring equinock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un directly overhead on the spring equinoc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23560" y="2362320"/>
            <a:ext cx="503604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What is June 21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57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1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21160" y="-399924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25080" y="6659280"/>
            <a:ext cx="15264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8288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June 21st what is the sun directly ab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09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2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300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longest day  ?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400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Solstice me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e fall equinocks happ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200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difference of the Fall equinocks and the spring equin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1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un directly over during the winter ?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opic of Capricom’s laditude line on a map?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0:14:17Z</dcterms:created>
  <dc:creator>chidimmaezeokafor</dc:creator>
  <dc:description/>
  <dc:language>en-US</dc:language>
  <cp:lastModifiedBy>chidimmaezeokafor</cp:lastModifiedBy>
  <dcterms:modified xsi:type="dcterms:W3CDTF">2008-09-09T02:26:04Z</dcterms:modified>
  <cp:revision>8</cp:revision>
  <dc:subject/>
  <dc:title>Slide 1</dc:title>
</cp:coreProperties>
</file>